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3C0-E3EF-4A48-B0EA-F685A8A5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FE7-13E7-4A92-A634-4108327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496-A04B-44DF-A379-1FC7571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9D6-4BD9-4A65-B265-A99D1E1F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544-37E5-48B6-91B5-BF5FEDAD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EE31-4419-4F04-B6EB-6FDF97F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DD78-976A-41A8-8F8C-F4947E2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D6D1-A511-4131-8372-C66743D0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997-0AB3-4563-81FE-D4599D5B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DB81-DEEB-42E6-ABC3-17774ED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AC11-4D06-4234-9CA0-A2C42593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C29-963D-4AA4-A4B7-D020A59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F8E2-7C75-40A7-896D-420F03A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4EC-35B9-41CE-BDCC-7C01D8E7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AF49-0450-4445-8D73-F4FE30BC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2602-5F30-45CC-8FCA-94E0F8FD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FBA-1339-477D-8BFF-5C53720C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7D9-C5AF-47E9-9E9A-3D17AD1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056-1635-42DC-879B-6710D1D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5FE-E8B6-479A-BADE-99A83446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317-3F00-41DC-9E7C-4F27856D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2A8-88AF-4AD0-8C7F-CA1C5A1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B32-0CD6-4BDA-8306-46ADA91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823-5C1E-433B-BD14-A88D799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794-1DDB-45DF-9AE4-9098ACA8E1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E23A-BF8B-4059-8819-C0A44F2AC5C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675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Page 37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Avancemos 3</a:t>
            </a:r>
            <a:br>
              <a:rPr sz="4400"/>
            </a:b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z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almor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omen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ru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empe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almor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omen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ru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emp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¿Quién 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organi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z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ó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la excursión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Who organized the trip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Yo 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organi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é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la excursión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I organized the trip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You use the preterite to talk about things that happened in the past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Here are the regular preterite forms of verbs ending in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–a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-e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, and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–i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CAMINAR – to walk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é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COMER – to eat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í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e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VIVIR – to live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í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e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Escal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é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una montaña hoy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I climbed a mountian today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Sal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imos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de la casa a las cinco de la mañana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We left the house at five o´clock in the morn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gar, -car, -z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Remember that verbs ending in </a:t>
            </a:r>
            <a:r>
              <a:rPr b="0" i="1" lang="es-ES" sz="3200" spc="-1" strike="noStrike">
                <a:solidFill>
                  <a:srgbClr val="2f1311"/>
                </a:solidFill>
                <a:latin typeface="Arial"/>
              </a:rPr>
              <a:t>–gar, -car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, and </a:t>
            </a:r>
            <a:r>
              <a:rPr b="0" i="1" lang="es-ES" sz="3200" spc="-1" strike="noStrike">
                <a:solidFill>
                  <a:srgbClr val="2f1311"/>
                </a:solidFill>
                <a:latin typeface="Arial"/>
              </a:rPr>
              <a:t>–zar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 have a spelling change </a:t>
            </a:r>
            <a:r>
              <a:rPr b="0" lang="es-ES" sz="3200" spc="-1" strike="noStrike" u="sng">
                <a:solidFill>
                  <a:srgbClr val="2f1311"/>
                </a:solidFill>
                <a:uFillTx/>
                <a:latin typeface="Arial"/>
              </a:rPr>
              <a:t>ONLY in the yo form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 in the preteri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The other forms of these verbs are regula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2971800" y="5257800"/>
            <a:ext cx="4191120" cy="0"/>
          </a:xfrm>
          <a:prstGeom prst="line">
            <a:avLst/>
          </a:prstGeom>
          <a:ln w="7632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car Verbs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bus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ho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practi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sa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bus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ho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practi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sa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g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investi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nave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ju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lle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investi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nav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ju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ll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0:09:22Z</dcterms:created>
  <dc:creator>Suzanne M. Shirley</dc:creator>
  <dc:description/>
  <dc:language>en-US</dc:language>
  <cp:lastModifiedBy>Local User</cp:lastModifiedBy>
  <dcterms:modified xsi:type="dcterms:W3CDTF">2009-09-14T18:00:03Z</dcterms:modified>
  <cp:revision>6</cp:revision>
  <dc:subject/>
  <dc:title>El Pretérito de los Verbos - AVSR</dc:title>
</cp:coreProperties>
</file>